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EF84-954A-4FFF-9E3D-94FDDAD5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C8C9-DF99-4B31-8CBA-8ADC6BB2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7ADB-9862-457E-A12F-B96CC36F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0A1A-0833-4DE5-8BCD-F0E2B9F82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69E3-12BC-4DB5-A7C6-E8004B67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8CD7-FCB1-46CC-AE56-AFE953C4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CA5B-C72C-45D5-B555-0339F923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BAC0-74DE-4E6C-9A01-794E7D0B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4D2C-74DB-4B16-B01B-2E5DF748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566F-9331-474E-933B-A08F0EEC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770B-FFA8-488C-95D8-4C886B12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3D4F-6745-4587-B668-8ECBB9B5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BD60-73B8-4A46-BC1A-0E95D857A41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2360" y="1179360"/>
            <a:ext cx="863928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322200" y="1844640"/>
            <a:ext cx="85708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64960" y="1557360"/>
            <a:ext cx="8666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الإسراء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ا ذكرت حادثة الإسراء بالنبي صلى الله عليه وسلم من المسجد الحرام إلى المسجد الأقص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06280" y="2997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أسراء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1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08080" y="35719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أسراء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القص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14200" y="24210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أسراء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مر بالتوحي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 flipH="1">
            <a:off x="8817120" y="1662120"/>
            <a:ext cx="2880" cy="254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صديق الرسول صلى الله عليه وسلم في قصة الإسر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شيء من الواجبات والمنهيات في الإ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رد على المشرك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1"/>
          <p:cNvCxnSpPr/>
          <p:nvPr/>
        </p:nvCxnSpPr>
        <p:spPr>
          <a:xfrm flipH="1">
            <a:off x="8456040" y="3766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35337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قدرة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  <p:cxnSp>
        <p:nvCxnSpPr>
          <p:cNvPr id="67" name="رابط كسهم مستقيم 27"/>
          <p:cNvCxnSpPr/>
          <p:nvPr/>
        </p:nvCxnSpPr>
        <p:spPr>
          <a:xfrm flipH="1">
            <a:off x="8456040" y="4198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250920" y="3965400"/>
            <a:ext cx="82087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تعنت الكفار مع النبي صلى الله عليه وسلم وتوجيه الرسول صلى الله عليه وسلم إلى كيفية الرد عليه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3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250920" y="1467000"/>
            <a:ext cx="8642160" cy="52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7T22:42:56Z</dcterms:modified>
  <cp:revision>1827</cp:revision>
  <dc:subject/>
  <dc:title>عرض تقديمي في PowerPoint</dc:title>
</cp:coreProperties>
</file>